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B96-56EA-4B04-94A0-42544532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E8E-6F7A-45C1-81AE-EE0AD037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DCA-57D6-4E21-BCB7-020E7804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33C-4166-4295-9342-8765351F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5879-FB96-458A-94FF-5D743B1C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0C8A-E3E5-4392-9D8D-CA6E41B2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D87D-6432-4C76-A652-35A9E94C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A4AE-0FB6-47B8-BEAC-7E28C359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EA1C-7572-4162-9754-09205CD7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E4CC-D3CB-40F1-9330-AEA49251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248B-5285-452E-A8F2-613CFA84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595-68AE-4080-A9A3-D75D15EF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DF37-A3C3-485A-927F-AD845AE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46D3-35E8-4D4D-A887-74AE6272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8EAC-174D-4991-8C13-461F84F5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BF38-808F-4BA9-852B-3A4AFF93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7604-54F3-4A92-B3AB-1A6489E5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56A-91AE-4DC8-A61A-1E78EA05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D72-D03D-4AAF-9C75-008AFFC4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449-A7AD-4714-9C2F-A9B91B05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DF7-143C-4DA7-9143-996A4796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C1D-9049-4235-8CBB-5A5C6E84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F8C-1E60-4F31-AD44-5479F73A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330-D2A7-4AC8-9D38-9280D3E9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073E-0E25-4A23-967E-AA65BAAC1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01CD-478B-4010-9F88-6D73063BD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Divided Kingdom, Part 2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“Till There Was No Remedy”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7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A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3-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2:6-16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judgments came about within 50 years of these prophes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s of the nations were for their wickedness against God’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s against Judah and Israel were for transgressions against the people and for transgressing God’s command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uction will be total and complete, except for a rem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ree Prophetic Serm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3:1 – 6:14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Message (3:1-15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r this word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as calling His people into account becaus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asked 7 rhetorica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int - it would be unreasonable to expect God to be in their presence or give them fav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condemnation of Samaria (Isra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perity and luxury would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ree Prophetic Serm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3:1 – 6:14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Message (4:1-13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r this word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aders had oppressed the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fallen into idolatry with their sacrif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received 5 chastisements – no resul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v6, v7, v9, v10, v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 have ye not returned to me”  (4: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pare to meet thy God” (4: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ree Prophetic Serm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3:1 – 6:14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ird Message (5:1 – 6:14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r this word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ingdom would be brought to an e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srael was never reestablish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as still hope: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Seek Me and live.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mos was begging th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ek good and not evil, that ye may liv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ree Prophetic Serm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3:1 – 6:14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ird Message (5:1 – 6:14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woe was,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Woe to you who desire the day of the Lord!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(5: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cond woe wa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Woe to them that are at ease in Zion, and trust in the mountain of Samaria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(6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despised their luxurious, outward worship - it was a s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Lord God hath sworn by himself...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aptivity would not be avo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Five Visions of Amo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7:1 – 9:10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 of grasshoppers (7:1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 concerning the fire (7:4-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 of the plumbline (7:7-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maziah, the priest, falsely accused Amos before Jeroboam (7:10-1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declared that God had sent him and the pronounced doom on the false pri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Five Visions of Amo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7:1 – 9:10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 of the basket of fruit (8:1-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ripe for judg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days of fam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 of the passing of a kingdom – Israel; except for a remnant (9:1-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Future Restoration of Israel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9:11-15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will raise up the tabernacle of David – a new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include the remnant of David, the remnant of Edom and all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it shall endure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Prophet Amo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means “burden bear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ep herdsman from Tekoa, and a dresser of sycamore 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esied about 760 to 755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40 years before the fall of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d during the reign of Jeroboam II in Israel and Uzziah in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“trained” proph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ent him to preach to Israel - “two years before the earthquake”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Zech. 14: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86200" y="3200400"/>
            <a:ext cx="457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3276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19360" y="350532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Book of Amo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Outl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6960" indent="-50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 against various nations around Israe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1:1-2: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960" indent="-50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of affairs of both Judah and Israel but mostly Israe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2:4-6: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960" indent="-50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nding punishment of Israe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7:1-9: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960" indent="-50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restoration of Israe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9:11-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 of Nati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1:1-2:3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scus (Syr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uelties against Gilead (2 Kings 10:3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 2 Kings 16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za (Philist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ing captives to Edom (2 Chron. 21: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 in 2 Kings 18: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re (Phoenic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ing captives to 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 in Ezek. 26:7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 of Nati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1:1-2:3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tter enemies of Israel, especially when Jerusalem was besieged by Chald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pregnant women to seize territory in Gi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ed the bones of the king of 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 of Judah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2:4-5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gres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pised the law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pt not His command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s (false prophets) caused them to sin (e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 will come upon them and it will devour the palaces of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of Jerusalem (2 Kings 2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 of Israel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2:6-16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gres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aders sold the righteous for silver, and the poor for a pair of sh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ted after (wanted it badly) the dust of the earth on the head of the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ed aside the way of the m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n and son with the same wo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ned pledged garments and used them in holy pl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ght wine with unjust and oppressive f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4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4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4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4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4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4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 of Israel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2:6-16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gres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God’s chosen ones to break their vow and stum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ed the prophets not to prophe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’s judgment to them would be utter de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would escape, not even the strongest, the fastest, or the most coura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4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4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4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4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4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4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8:43:56Z</dcterms:created>
  <dc:creator>Don Vines</dc:creator>
  <dc:description/>
  <dc:language>en-US</dc:language>
  <cp:lastModifiedBy>Frank D Vines</cp:lastModifiedBy>
  <dcterms:modified xsi:type="dcterms:W3CDTF">2006-01-15T14:31:23Z</dcterms:modified>
  <cp:revision>29</cp:revision>
  <dc:subject/>
  <dc:title>The Divided Kingdom, Part 2 “Till There Was No Remedy”</dc:title>
</cp:coreProperties>
</file>